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9320" y="722160"/>
            <a:ext cx="480852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A052-5A3B-4986-A501-E19B3A2C1B4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B978-BE9C-4635-AFC6-E652E84A2BE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F36E-BB3B-4913-B662-E43527A46C2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3A26-5872-46BA-B0A6-8BC0699C1F1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D166-B0C5-4F08-AABB-CA29F5ACA5A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6519-9AF8-4DB5-9E05-F5306FEB612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FCAB-4F58-45E8-A144-A6D8E24B5F8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F0F7-2A44-48F1-A295-BAB7D0047B3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5671-05B7-4703-AC99-F2031B179D3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DB3-895D-4326-AAE3-DDEFD932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7BA-C95F-478E-B85C-3C4F35F1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0AD-2CED-486C-B356-5068A885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077-AD93-458C-874C-E94BA09D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22F-12C8-4163-A722-D3FC7D07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9DA-4F8D-4960-B467-1FA4D4BA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31F-F0A8-43D2-8E5B-A1176E05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323-5508-4A53-9E2B-C663B145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970-A690-4769-9360-BA007CCC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B69-85C9-4213-BB30-F8120915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39F-6EE4-4F79-BFA4-FFBE9243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8C0-8AAE-460A-AFFF-BCA38B0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BD03-9998-467D-AC99-4C518E9FD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dustryresearch.com.a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otorcycle Damag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od features  </a:t>
            </a:r>
            <a:r>
              <a:rPr b="0" lang="en-AU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2765520" y="3270240"/>
            <a:ext cx="3825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Prepared by Anthony Bod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Parts Research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Insurance Australia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office +61 (0)2 9292 68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mobile +61 (0)4 11 012 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22 August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IAG Research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Unit One, No. 2 Holker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Newington NSW 2127 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reception +61 (0)2 9292 68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fax +61 (0)2 9737 98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www.industryresearch.com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040" y="1143000"/>
            <a:ext cx="4064040" cy="19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placeable low-cost unpainted cover, supported by an internal reinforced steel bar, protects body side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onda ST13003"/>
          <p:cNvPicPr/>
          <p:nvPr/>
        </p:nvPicPr>
        <p:blipFill>
          <a:blip r:embed="rId1"/>
          <a:stretch/>
        </p:blipFill>
        <p:spPr>
          <a:xfrm>
            <a:off x="5086440" y="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onda ST13002"/>
          <p:cNvPicPr/>
          <p:nvPr/>
        </p:nvPicPr>
        <p:blipFill>
          <a:blip r:embed="rId2"/>
          <a:stretch/>
        </p:blipFill>
        <p:spPr>
          <a:xfrm>
            <a:off x="0" y="3198960"/>
            <a:ext cx="4876920" cy="3659040"/>
          </a:xfrm>
          <a:prstGeom prst="rect">
            <a:avLst/>
          </a:prstGeom>
          <a:ln w="0">
            <a:noFill/>
          </a:ln>
        </p:spPr>
      </p:pic>
      <p:sp>
        <p:nvSpPr>
          <p:cNvPr id="54" name="Line 12"/>
          <p:cNvSpPr/>
          <p:nvPr/>
        </p:nvSpPr>
        <p:spPr>
          <a:xfrm>
            <a:off x="5105520" y="3124080"/>
            <a:ext cx="1752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 flipV="1">
            <a:off x="2819520" y="556272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279360" y="1397160"/>
            <a:ext cx="428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de prot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(also known as bobbi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ungs, or kn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"/>
          <p:cNvPicPr/>
          <p:nvPr/>
        </p:nvPicPr>
        <p:blipFill>
          <a:blip r:embed="rId1"/>
          <a:stretch/>
        </p:blipFill>
        <p:spPr>
          <a:xfrm>
            <a:off x="0" y="3122640"/>
            <a:ext cx="4648320" cy="373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4724280" cy="36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4508640" y="56008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placeable external clutch cover saves damage to engine and lower fa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BR Clutch Cover"/>
          <p:cNvPicPr/>
          <p:nvPr/>
        </p:nvPicPr>
        <p:blipFill>
          <a:blip r:embed="rId1"/>
          <a:stretch/>
        </p:blipFill>
        <p:spPr>
          <a:xfrm>
            <a:off x="1795320" y="0"/>
            <a:ext cx="7348680" cy="5511960"/>
          </a:xfrm>
          <a:prstGeom prst="rect">
            <a:avLst/>
          </a:prstGeom>
          <a:ln w="0">
            <a:noFill/>
          </a:ln>
        </p:spPr>
      </p:pic>
      <p:sp>
        <p:nvSpPr>
          <p:cNvPr id="62" name="Line 6"/>
          <p:cNvSpPr/>
          <p:nvPr/>
        </p:nvSpPr>
        <p:spPr>
          <a:xfrm flipV="1">
            <a:off x="5638680" y="3428640"/>
            <a:ext cx="0" cy="2057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"/>
          <p:cNvPicPr/>
          <p:nvPr/>
        </p:nvPicPr>
        <p:blipFill>
          <a:blip r:embed="rId1"/>
          <a:stretch/>
        </p:blipFill>
        <p:spPr>
          <a:xfrm>
            <a:off x="4724280" y="0"/>
            <a:ext cx="4800600" cy="340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9728001 Popup"/>
          <p:cNvPicPr/>
          <p:nvPr/>
        </p:nvPicPr>
        <p:blipFill>
          <a:blip r:embed="rId2"/>
          <a:stretch/>
        </p:blipFill>
        <p:spPr>
          <a:xfrm>
            <a:off x="0" y="340056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3"/>
          <p:cNvSpPr/>
          <p:nvPr/>
        </p:nvSpPr>
        <p:spPr>
          <a:xfrm>
            <a:off x="558720" y="81288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placeable covers in rubber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rbon fib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tec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4723560" y="1549440"/>
            <a:ext cx="10033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2965320" y="3397320"/>
            <a:ext cx="0" cy="1003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855800" y="6553080"/>
            <a:ext cx="29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Truimph Daytona OEM access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onda Hornet 2"/>
          <p:cNvPicPr/>
          <p:nvPr/>
        </p:nvPicPr>
        <p:blipFill>
          <a:blip r:embed="rId1"/>
          <a:stretch/>
        </p:blipFill>
        <p:spPr>
          <a:xfrm>
            <a:off x="0" y="331488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457200" y="762120"/>
            <a:ext cx="402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tal heat sh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-incidentally peform a secondary function: they protect expensive mufflers/sile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IMG_3397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onda Forza1"/>
          <p:cNvPicPr/>
          <p:nvPr/>
        </p:nvPicPr>
        <p:blipFill>
          <a:blip r:embed="rId3"/>
          <a:stretch/>
        </p:blipFill>
        <p:spPr>
          <a:xfrm>
            <a:off x="4724280" y="3314880"/>
            <a:ext cx="472464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595920" y="0"/>
            <a:ext cx="2548080" cy="3473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0" y="469800"/>
            <a:ext cx="657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tachable heat shields also prevent consmetic damage to expensive radiator header 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ER-5"/>
          <p:cNvPicPr/>
          <p:nvPr/>
        </p:nvPicPr>
        <p:blipFill>
          <a:blip r:embed="rId2"/>
          <a:stretch/>
        </p:blipFill>
        <p:spPr>
          <a:xfrm>
            <a:off x="0" y="1905120"/>
            <a:ext cx="6603840" cy="4952880"/>
          </a:xfrm>
          <a:prstGeom prst="rect">
            <a:avLst/>
          </a:prstGeom>
          <a:ln w="0">
            <a:noFill/>
          </a:ln>
        </p:spPr>
      </p:pic>
      <p:sp>
        <p:nvSpPr>
          <p:cNvPr id="76" name="Oval 8"/>
          <p:cNvSpPr/>
          <p:nvPr/>
        </p:nvSpPr>
        <p:spPr>
          <a:xfrm>
            <a:off x="1930320" y="3543480"/>
            <a:ext cx="1752840" cy="236196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7148520" y="152280"/>
            <a:ext cx="1220760" cy="305604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3"/>
          <a:stretch/>
        </p:blipFill>
        <p:spPr>
          <a:xfrm>
            <a:off x="7053120" y="5081760"/>
            <a:ext cx="2368800" cy="17762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7223400" y="46972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thout shi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8388360" y="5073480"/>
            <a:ext cx="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3600" y="1168560"/>
            <a:ext cx="331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tal bars fit unobtrusively to protect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onda Goldwing2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onda Goldwing1"/>
          <p:cNvPicPr/>
          <p:nvPr/>
        </p:nvPicPr>
        <p:blipFill>
          <a:blip r:embed="rId2"/>
          <a:stretch/>
        </p:blipFill>
        <p:spPr>
          <a:xfrm>
            <a:off x="0" y="33717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84" name="Line 11"/>
          <p:cNvSpPr/>
          <p:nvPr/>
        </p:nvSpPr>
        <p:spPr>
          <a:xfrm flipH="1">
            <a:off x="7391520" y="1295280"/>
            <a:ext cx="1752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"/>
          <p:cNvPicPr/>
          <p:nvPr/>
        </p:nvPicPr>
        <p:blipFill>
          <a:blip r:embed="rId3"/>
          <a:stretch/>
        </p:blipFill>
        <p:spPr>
          <a:xfrm>
            <a:off x="4648320" y="3863880"/>
            <a:ext cx="4495680" cy="2613240"/>
          </a:xfrm>
          <a:prstGeom prst="rect">
            <a:avLst/>
          </a:prstGeom>
          <a:ln w="0">
            <a:noFill/>
          </a:ln>
        </p:spPr>
      </p:pic>
      <p:sp>
        <p:nvSpPr>
          <p:cNvPr id="86" name="Line 14"/>
          <p:cNvSpPr/>
          <p:nvPr/>
        </p:nvSpPr>
        <p:spPr>
          <a:xfrm flipV="1">
            <a:off x="2209680" y="579096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 flipH="1">
            <a:off x="5486400" y="5029200"/>
            <a:ext cx="1752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781680" y="5029200"/>
            <a:ext cx="17528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03:43:43Z</dcterms:created>
  <dc:creator>Peter Dearth</dc:creator>
  <dc:description/>
  <dc:language>en-US</dc:language>
  <cp:lastModifiedBy>Chris Emerson</cp:lastModifiedBy>
  <dcterms:modified xsi:type="dcterms:W3CDTF">2010-02-07T23:40:27Z</dcterms:modified>
  <cp:revision>52</cp:revision>
  <dc:subject/>
  <dc:title>Motorcycle Damageability</dc:title>
</cp:coreProperties>
</file>