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320" y="722160"/>
            <a:ext cx="480852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104-4712-4BEA-84BD-DEF2A3A50DE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1CE-72B9-4392-9803-5EDAA667BCC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1B51-9B6A-4F0F-AD12-7C4870ED6AD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AB56-7728-4DE8-8E4A-D63223F965C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605A-C9D7-4457-84B8-B0236030CDA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308F-58E6-4E6D-B5EB-9D992FFDB7C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7DCE-BBFD-4B27-8C0A-AD564313DB3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462-6C1A-4DFF-8077-55594EF7F4F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E4CF-58A8-4768-8178-97C49357CF3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865-3751-4C91-8523-A13CA7AC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20B-4789-4426-8419-A5428405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2F1-DC06-4BFE-93B6-2FC1EA37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38F-DCFA-4E8F-9CF9-81DDDE00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841-26E8-4EC7-97AD-4B00155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0C5-BF3D-415F-8870-43106D13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59C-F378-4FB7-8315-7DE8CE3F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F99-1525-4504-AAF2-6703E522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4B4-058B-4EDD-B407-D9EEBD45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358-C561-4B9A-A473-0B0DAC1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735-D94B-49C9-BDFF-9063ED55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3C4-F25F-464A-8552-935A5C6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C7C4-75FF-4885-8D28-8B2D71F91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dustryresearch.com.a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otorcycle Damag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d features  </a:t>
            </a:r>
            <a:r>
              <a:rPr b="0" lang="en-AU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2765520" y="3270240"/>
            <a:ext cx="3825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Prepared by Anthony Bo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Parts Research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Insurance Australia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office +61 (0)2 9292 68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mobile +61 (0)4 11 012 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22 August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IAG Research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Unit One, No. 2 Holker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Newington NSW 2127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reception +61 (0)2 9292 68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fax +61 (0)2 9737 98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www.industryresearch.com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406404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placeable low-cost unpainted cover, supported by an internal reinforced steel bar, protects body side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onda ST13003"/>
          <p:cNvPicPr/>
          <p:nvPr/>
        </p:nvPicPr>
        <p:blipFill>
          <a:blip r:embed="rId1"/>
          <a:stretch/>
        </p:blipFill>
        <p:spPr>
          <a:xfrm>
            <a:off x="5086440" y="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onda ST13002"/>
          <p:cNvPicPr/>
          <p:nvPr/>
        </p:nvPicPr>
        <p:blipFill>
          <a:blip r:embed="rId2"/>
          <a:stretch/>
        </p:blipFill>
        <p:spPr>
          <a:xfrm>
            <a:off x="0" y="3198960"/>
            <a:ext cx="4876920" cy="3659040"/>
          </a:xfrm>
          <a:prstGeom prst="rect">
            <a:avLst/>
          </a:prstGeom>
          <a:ln w="0">
            <a:noFill/>
          </a:ln>
        </p:spPr>
      </p:pic>
      <p:sp>
        <p:nvSpPr>
          <p:cNvPr id="54" name="Line 12"/>
          <p:cNvSpPr/>
          <p:nvPr/>
        </p:nvSpPr>
        <p:spPr>
          <a:xfrm>
            <a:off x="5105520" y="3124080"/>
            <a:ext cx="1752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 flipV="1">
            <a:off x="2819520" y="556272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279360" y="1397160"/>
            <a:ext cx="428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de prot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also known as bobbi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ngs, or kn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"/>
          <p:cNvPicPr/>
          <p:nvPr/>
        </p:nvPicPr>
        <p:blipFill>
          <a:blip r:embed="rId1"/>
          <a:stretch/>
        </p:blipFill>
        <p:spPr>
          <a:xfrm>
            <a:off x="0" y="3122640"/>
            <a:ext cx="4648320" cy="373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4724280" cy="36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4508640" y="56008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placeable external clutch cover saves damage to engine and lower fa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BR Clutch Cover"/>
          <p:cNvPicPr/>
          <p:nvPr/>
        </p:nvPicPr>
        <p:blipFill>
          <a:blip r:embed="rId1"/>
          <a:stretch/>
        </p:blipFill>
        <p:spPr>
          <a:xfrm>
            <a:off x="1795320" y="0"/>
            <a:ext cx="7348680" cy="5511960"/>
          </a:xfrm>
          <a:prstGeom prst="rect">
            <a:avLst/>
          </a:prstGeom>
          <a:ln w="0">
            <a:noFill/>
          </a:ln>
        </p:spPr>
      </p:pic>
      <p:sp>
        <p:nvSpPr>
          <p:cNvPr id="62" name="Line 6"/>
          <p:cNvSpPr/>
          <p:nvPr/>
        </p:nvSpPr>
        <p:spPr>
          <a:xfrm flipV="1">
            <a:off x="5638680" y="3428640"/>
            <a:ext cx="0" cy="2057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"/>
          <p:cNvPicPr/>
          <p:nvPr/>
        </p:nvPicPr>
        <p:blipFill>
          <a:blip r:embed="rId1"/>
          <a:stretch/>
        </p:blipFill>
        <p:spPr>
          <a:xfrm>
            <a:off x="4724280" y="0"/>
            <a:ext cx="4800600" cy="340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9728001 Popup"/>
          <p:cNvPicPr/>
          <p:nvPr/>
        </p:nvPicPr>
        <p:blipFill>
          <a:blip r:embed="rId2"/>
          <a:stretch/>
        </p:blipFill>
        <p:spPr>
          <a:xfrm>
            <a:off x="0" y="340056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558720" y="81288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placeable covers in rubber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rbon fib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tec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4723560" y="1549440"/>
            <a:ext cx="10033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2965320" y="3397320"/>
            <a:ext cx="0" cy="1003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855800" y="6553080"/>
            <a:ext cx="29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Truimph Daytona OEM access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onda Hornet 2"/>
          <p:cNvPicPr/>
          <p:nvPr/>
        </p:nvPicPr>
        <p:blipFill>
          <a:blip r:embed="rId1"/>
          <a:stretch/>
        </p:blipFill>
        <p:spPr>
          <a:xfrm>
            <a:off x="0" y="3314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457200" y="762120"/>
            <a:ext cx="402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al heat sh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-incidentally peform a secondary function: they protect expensive mufflers/sile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IMG_3397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onda Forza1"/>
          <p:cNvPicPr/>
          <p:nvPr/>
        </p:nvPicPr>
        <p:blipFill>
          <a:blip r:embed="rId3"/>
          <a:stretch/>
        </p:blipFill>
        <p:spPr>
          <a:xfrm>
            <a:off x="4724280" y="3314880"/>
            <a:ext cx="47246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595920" y="0"/>
            <a:ext cx="2548080" cy="3473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0" y="469800"/>
            <a:ext cx="657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tachable heat shields also prevent consmetic damage to expensive radiator header 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ER-5"/>
          <p:cNvPicPr/>
          <p:nvPr/>
        </p:nvPicPr>
        <p:blipFill>
          <a:blip r:embed="rId2"/>
          <a:stretch/>
        </p:blipFill>
        <p:spPr>
          <a:xfrm>
            <a:off x="0" y="1905120"/>
            <a:ext cx="6603840" cy="4952880"/>
          </a:xfrm>
          <a:prstGeom prst="rect">
            <a:avLst/>
          </a:prstGeom>
          <a:ln w="0">
            <a:noFill/>
          </a:ln>
        </p:spPr>
      </p:pic>
      <p:sp>
        <p:nvSpPr>
          <p:cNvPr id="76" name="Oval 8"/>
          <p:cNvSpPr/>
          <p:nvPr/>
        </p:nvSpPr>
        <p:spPr>
          <a:xfrm>
            <a:off x="1930320" y="3543480"/>
            <a:ext cx="1752840" cy="236196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7148520" y="152280"/>
            <a:ext cx="1220760" cy="305604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3"/>
          <a:stretch/>
        </p:blipFill>
        <p:spPr>
          <a:xfrm>
            <a:off x="7053120" y="5081760"/>
            <a:ext cx="2368800" cy="17762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7223400" y="46972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thout shi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8388360" y="5073480"/>
            <a:ext cx="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3600" y="1168560"/>
            <a:ext cx="331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al bars fit unobtrusively to protect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onda Goldwing2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onda Goldwing1"/>
          <p:cNvPicPr/>
          <p:nvPr/>
        </p:nvPicPr>
        <p:blipFill>
          <a:blip r:embed="rId2"/>
          <a:stretch/>
        </p:blipFill>
        <p:spPr>
          <a:xfrm>
            <a:off x="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84" name="Line 11"/>
          <p:cNvSpPr/>
          <p:nvPr/>
        </p:nvSpPr>
        <p:spPr>
          <a:xfrm flipH="1">
            <a:off x="7391520" y="1295280"/>
            <a:ext cx="1752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3"/>
          <a:stretch/>
        </p:blipFill>
        <p:spPr>
          <a:xfrm>
            <a:off x="4648320" y="3863880"/>
            <a:ext cx="4495680" cy="2613240"/>
          </a:xfrm>
          <a:prstGeom prst="rect">
            <a:avLst/>
          </a:prstGeom>
          <a:ln w="0">
            <a:noFill/>
          </a:ln>
        </p:spPr>
      </p:pic>
      <p:sp>
        <p:nvSpPr>
          <p:cNvPr id="86" name="Line 14"/>
          <p:cNvSpPr/>
          <p:nvPr/>
        </p:nvSpPr>
        <p:spPr>
          <a:xfrm flipV="1">
            <a:off x="2209680" y="579096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H="1">
            <a:off x="5486400" y="5029200"/>
            <a:ext cx="1752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781680" y="5029200"/>
            <a:ext cx="17528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03:43:43Z</dcterms:created>
  <dc:creator>Peter Dearth</dc:creator>
  <dc:description/>
  <dc:language>en-US</dc:language>
  <cp:lastModifiedBy>Chris Emerson</cp:lastModifiedBy>
  <dcterms:modified xsi:type="dcterms:W3CDTF">2010-02-07T23:40:27Z</dcterms:modified>
  <cp:revision>52</cp:revision>
  <dc:subject/>
  <dc:title>Motorcycle Damageability</dc:title>
</cp:coreProperties>
</file>