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7270-5328-4F9D-975E-9FC27671F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643A-1608-4369-A035-618A9268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04FD-7B65-4AAD-AB9D-71E8C7203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2445-41BB-4934-BF69-92943287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F519-B2DD-44F8-A52A-DA4C842B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A152-0B5C-43DD-B49D-EE378863C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EF5F-5A78-4139-89EB-262E8F7F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474A-0835-4C2E-9D67-40DBEC4F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0D40-5EA6-4171-9ADB-2151D467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EA09-C9EB-4CAC-BB31-C62BCBBA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E396-3A54-42E4-8095-C41F1019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A71E-AED9-4710-9C59-8A957505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76C8-769F-4DAD-A74C-2D79B4304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ndustryresearch.com.au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1360" y="2379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otorcycle Damage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1320480"/>
            <a:ext cx="6400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stly Features </a:t>
            </a:r>
            <a:r>
              <a:rPr b="0" lang="en-AU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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714760" y="2749680"/>
            <a:ext cx="36478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Prepared by Anthony Bod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Parts Research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Insurance Australia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office +61 (0)2 9292 68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mobile +61 (0)4 11 012 3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22 August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IAG Research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Unit One, No. 2 Holker Stre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Newington NSW 2127 Austr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reception +61 (0)2 9292 68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fax +61 (0)2 9737 98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9999"/>
                </a:solidFill>
                <a:uFillTx/>
                <a:latin typeface="Courier New"/>
                <a:hlinkClick r:id="rId1"/>
              </a:rPr>
              <a:t>www.industryresearch.com.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(C) 2006 All rights reserv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Suzuki Frame Damage"/>
          <p:cNvPicPr/>
          <p:nvPr/>
        </p:nvPicPr>
        <p:blipFill>
          <a:blip r:embed="rId1"/>
          <a:stretch/>
        </p:blipFill>
        <p:spPr>
          <a:xfrm>
            <a:off x="0" y="337176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0" y="198108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ar brake lever damages frame in stationary f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CBR900 H'bar dent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3717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5943600" y="335268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andlebar end damages frame in low speed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"/>
          <p:cNvSpPr/>
          <p:nvPr/>
        </p:nvSpPr>
        <p:spPr>
          <a:xfrm flipV="1">
            <a:off x="6553080" y="1752120"/>
            <a:ext cx="0" cy="16002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1"/>
          <p:cNvSpPr/>
          <p:nvPr/>
        </p:nvSpPr>
        <p:spPr>
          <a:xfrm>
            <a:off x="2209680" y="3351960"/>
            <a:ext cx="0" cy="12193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Swing ArmMuffler Damage"/>
          <p:cNvPicPr/>
          <p:nvPr/>
        </p:nvPicPr>
        <p:blipFill>
          <a:blip r:embed="rId1"/>
          <a:stretch/>
        </p:blipFill>
        <p:spPr>
          <a:xfrm>
            <a:off x="3998880" y="0"/>
            <a:ext cx="51451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0" y="1981080"/>
            <a:ext cx="3200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uffler contacts and creases alluminium swingarm in stationary f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>
            <a:off x="3962520" y="3124080"/>
            <a:ext cx="175248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457200" y="1676520"/>
            <a:ext cx="3886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teel frame brackets stronger than aluminium fra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- can dam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rame on imp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 stationary f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IMG_3405"/>
          <p:cNvPicPr/>
          <p:nvPr/>
        </p:nvPicPr>
        <p:blipFill>
          <a:blip r:embed="rId1"/>
          <a:stretch/>
        </p:blipFill>
        <p:spPr>
          <a:xfrm>
            <a:off x="4495680" y="337176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0" y="685800"/>
            <a:ext cx="5334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irst points of contact in stationary fall are unprotected frame and fuel tan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(most expensive par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Yamaha Fazer1"/>
          <p:cNvPicPr/>
          <p:nvPr/>
        </p:nvPicPr>
        <p:blipFill>
          <a:blip r:embed="rId1"/>
          <a:stretch/>
        </p:blipFill>
        <p:spPr>
          <a:xfrm>
            <a:off x="5315040" y="0"/>
            <a:ext cx="382896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Yamaha Fazer2"/>
          <p:cNvPicPr/>
          <p:nvPr/>
        </p:nvPicPr>
        <p:blipFill>
          <a:blip r:embed="rId2"/>
          <a:stretch/>
        </p:blipFill>
        <p:spPr>
          <a:xfrm>
            <a:off x="0" y="2857680"/>
            <a:ext cx="5334120" cy="4000320"/>
          </a:xfrm>
          <a:prstGeom prst="rect">
            <a:avLst/>
          </a:prstGeom>
          <a:ln w="0">
            <a:noFill/>
          </a:ln>
        </p:spPr>
      </p:pic>
      <p:sp>
        <p:nvSpPr>
          <p:cNvPr id="58" name="Oval 7"/>
          <p:cNvSpPr/>
          <p:nvPr/>
        </p:nvSpPr>
        <p:spPr>
          <a:xfrm>
            <a:off x="1676520" y="3200400"/>
            <a:ext cx="1143000" cy="1523880"/>
          </a:xfrm>
          <a:prstGeom prst="ellipse">
            <a:avLst/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8"/>
          <p:cNvSpPr/>
          <p:nvPr/>
        </p:nvSpPr>
        <p:spPr>
          <a:xfrm>
            <a:off x="6553080" y="0"/>
            <a:ext cx="1295640" cy="2362320"/>
          </a:xfrm>
          <a:prstGeom prst="ellipse">
            <a:avLst/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DSC01080"/>
          <p:cNvPicPr/>
          <p:nvPr/>
        </p:nvPicPr>
        <p:blipFill>
          <a:blip r:embed="rId1"/>
          <a:stretch/>
        </p:blipFill>
        <p:spPr>
          <a:xfrm>
            <a:off x="3110040" y="233208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533520" y="380880"/>
            <a:ext cx="5943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lose proximity of handlebar switch to fuel tank at full lock guarantees fuel tank damage in a stationary f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4038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nprotected swingarm is first point of contact in low speed f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DSC01708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3373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Ducati 999 Swing Arm"/>
          <p:cNvPicPr/>
          <p:nvPr/>
        </p:nvPicPr>
        <p:blipFill>
          <a:blip r:embed="rId2"/>
          <a:stretch/>
        </p:blipFill>
        <p:spPr>
          <a:xfrm>
            <a:off x="0" y="337176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03:43:43Z</dcterms:created>
  <dc:creator>Peter Dearth</dc:creator>
  <dc:description/>
  <dc:language>en-US</dc:language>
  <cp:lastModifiedBy>Chris Emerson</cp:lastModifiedBy>
  <dcterms:modified xsi:type="dcterms:W3CDTF">2010-02-07T23:40:55Z</dcterms:modified>
  <cp:revision>49</cp:revision>
  <dc:subject/>
  <dc:title>Motorcycle Damageability</dc:title>
</cp:coreProperties>
</file>